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22B-1164-40F3-8049-ECB02CCF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E39-D0F9-4766-8ADC-E0948818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38F-69F5-4AE0-8310-F12CDB9C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EE2-64B8-4C15-9059-FCBBDA01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6C7-2A2E-428D-AEEB-842671B4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4DC-72E3-4562-9665-2E385C63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1EA-4B38-4907-9B02-0DFAF6CC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F82-BC70-4B4E-B6A5-E1B9F5C3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E8A-7975-4598-B38A-422F4944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930-3FDE-4E72-A252-4E3FB9F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44E-D7DD-46AF-BD99-A8068FE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205-5159-4BF2-B446-28BA27B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2165-56C2-4CAC-9B4D-AFA12368E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File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are distributed file systems usefu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difficult about distributed file syste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NFS wor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Haryadi S. Guna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356-F578-4CC8-BB6D-8CBC0D17F7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dempotency and Statelessnes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y stateless server and idempoten protocol are very simple to implemen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onsider this example of a simple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stateful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server and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non-idempotent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protocol.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server keeps track a nextByteToRead for each file opened by each client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nfs_read protocol does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have the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parameter (I.e. nfs_read(fh, 100 bytes))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this protocol is not idempoten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nfs_read is called twice, the first call “should” get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100 bytes, and the second call “should” get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100 byte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71C-B750-46EC-9D5E-B2E3AABC13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on-Idempotent Protoco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n-idempotent protocol is hard to get righ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halkboard"/>
              </a:rPr>
              <a:t>It “expects” no-failur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n the system (but network is not reliab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elow is an example of a non-idempotent protocol in the midst of a network failure (The read “retry” gets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100 bytes, while it expects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100 byt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971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954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3760" y="304812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open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3240" y="3048120"/>
            <a:ext cx="27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rver creates a state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, nextByteToRead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4040" y="350532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et A’s f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51800" y="3962520"/>
            <a:ext cx="17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read(fh,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51800" y="4876920"/>
            <a:ext cx="177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No respon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Let’s ret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read(fh,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3240" y="4191120"/>
            <a:ext cx="25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 the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1</a:t>
            </a:r>
            <a:r>
              <a:rPr b="1" lang="en-US" sz="1600" spc="-1" strike="noStrike" baseline="30000">
                <a:solidFill>
                  <a:srgbClr val="cc3300"/>
                </a:solidFill>
                <a:latin typeface="Chalkboard"/>
              </a:rPr>
              <a:t>st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, nextByteToRead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5334120"/>
            <a:ext cx="251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 the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2</a:t>
            </a:r>
            <a:r>
              <a:rPr b="1" lang="en-US" sz="1600" spc="-1" strike="noStrike" baseline="30000">
                <a:solidFill>
                  <a:srgbClr val="cc3300"/>
                </a:solidFill>
                <a:latin typeface="Chalkboard"/>
              </a:rPr>
              <a:t>nd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, nextByteToRead 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20040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00040" y="342900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411480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95320" y="44197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6600" y="42670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5410080"/>
            <a:ext cx="2514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00040" y="5638680"/>
            <a:ext cx="2514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05480" y="5867280"/>
            <a:ext cx="216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et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halkboard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lthough </a:t>
            </a:r>
            <a:r>
              <a:rPr b="0" lang="en-US" sz="1600" spc="-1" strike="noStrike">
                <a:solidFill>
                  <a:srgbClr val="cc3300"/>
                </a:solidFill>
                <a:latin typeface="Chalkboard"/>
              </a:rPr>
              <a:t>expec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halkboard"/>
              </a:rPr>
              <a:t>the 1</a:t>
            </a:r>
            <a:r>
              <a:rPr b="0" lang="en-US" sz="1600" spc="-1" strike="noStrike" baseline="30000">
                <a:solidFill>
                  <a:srgbClr val="cc3300"/>
                </a:solidFill>
                <a:latin typeface="Chalkboard"/>
              </a:rPr>
              <a:t>st</a:t>
            </a:r>
            <a:r>
              <a:rPr b="0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1D9-292A-4D8E-875F-66D88B34A8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dempotent Protoco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ient must specify the offse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failure happens, simply retry the oper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try is very easy for idempotent protoco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971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8954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3760" y="304812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open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120" y="3048120"/>
            <a:ext cx="257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rver does not 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ny states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4040" y="350532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et A’s f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6880" y="396252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read(fh,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0,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24640" y="4876920"/>
            <a:ext cx="200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No respon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Let’s ret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read(fh,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0,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32720" y="4191120"/>
            <a:ext cx="247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 the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1</a:t>
            </a:r>
            <a:r>
              <a:rPr b="1" lang="en-US" sz="1600" spc="-1" strike="noStrike" baseline="30000">
                <a:solidFill>
                  <a:srgbClr val="cc3300"/>
                </a:solidFill>
                <a:latin typeface="Chalkboard"/>
              </a:rPr>
              <a:t>st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get offset 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5334120"/>
            <a:ext cx="25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 the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1</a:t>
            </a:r>
            <a:r>
              <a:rPr b="1" lang="en-US" sz="1600" spc="-1" strike="noStrike" baseline="30000">
                <a:solidFill>
                  <a:srgbClr val="cc3300"/>
                </a:solidFill>
                <a:latin typeface="Chalkboard"/>
              </a:rPr>
              <a:t>st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get offset 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20040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342900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11480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95320" y="44197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06600" y="42670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5410080"/>
            <a:ext cx="2514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00040" y="5638680"/>
            <a:ext cx="2514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1920" y="58672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et the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halkboard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012-70AE-46CD-97BC-697C0BB011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apping UNIX System Calls to NFS Oper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nix system cal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d = open(“/mnt/nfs/dir/foo”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Say we mount an NFS file system to /mnt/nfs/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verse pathname to get filehandle for fo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fh = lookup(rootdirfh, “dir”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h = lookup(dirfh, “foo”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ord mapping 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d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descriptor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h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NFS filehand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t initial file offset to 0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, an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descript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y there is no lookup(“mnt”) or lookup(“nfs”)?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ecause “mnt” and “nfs” are local file system directori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the client accesses “nfs” directory, the mount protocol is run to hook a file system at the NFS server in “/mnt/nfs”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xt time the client access “nfs” subdirectories, the VFS layer knows that it must reroute fs operations to NFS-specific file system operation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CC4-AF9F-4404-BCD2-6872F0E821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67ff"/>
                </a:solidFill>
                <a:latin typeface="Chalkboard"/>
              </a:rPr>
              <a:t>Mapping UNIX System Calls to NFS Operations</a:t>
            </a:r>
            <a:endParaRPr b="0" lang="en-US" sz="36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nix system call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(fd,buffer,bytes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et current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h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NFS filehand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 = read(fh, offset, bytes)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nd cop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in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crement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nix system call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se(fd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ree resources associated with f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B73-A5F9-461A-9EC6-4480737EC5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ent-side Cach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ching needed to improve performanc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s: Check local cache before going to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rites: Only periodically write-back data to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void contacting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void slow communication over networ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 becomes scalability bottleneck with more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wo client cach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a block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ributes (metadata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36E-7837-438E-BCF6-E4D1A6D29F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che Consistenc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: Consistency across multiple copies (server and multiple clients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keep data consistent between client and server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file is changed on server, will client see update? No, because the server does not know who is using the file (i.e. stateless server cannot do anything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ing factor: Read policy on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keep data consistent across clien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write file on client A and read on client B, will B see updat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ing factor: Write and read policy on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311-88AE-4916-82C1-2D05FD807C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Consistency: 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s: How does client keep current with server stat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ttribute cache: Used to determine when file chan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le open: Client checks server to see if attributes have chang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f haven’t checked in past T seconds (configurable, T=3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card entries every N seconds (configurable, N=60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ata cach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card all blocks of file if attributes show file has been modifi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g: Client cache has file A’s attributes and blocks 1, 2, 3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opens A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(if haven’t checked, goto server, else, do nothing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1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read from local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waits 70 seconds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all entries are discard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2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: must lookup(A) to the server, and attribute of A says A hasn’t been modified, so read from local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lock 3 is changed on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3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(say 3 seconds have not elapsed) read the old b3 from local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4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read b4 from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waits 70 seconds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all entries are discard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1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lookup(A) to the server, A has been modified, hence read b1 from the server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1EC-F4E7-45F0-948A-15956EE7C4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Consistency: Writ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s: How does client update server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Write-back from client cache to server every 30 second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lso, Flush on close(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ynchronously write to serv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Client X and Y have file A (blocks 1,2,3) cach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s X and Y open file 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X writes to blocks 1 and 2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write b1 and b2 to local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Y reads block 1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read the old b1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0 seconds later...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new b1 and b2 have been flushed to the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Y reads block 2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lookup(A) to the server, A has changed! So, discard all data, and read b2 from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0 seconds later..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Y reads block 1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lookup(A) to the server, A is the same, but its data has been discarded before, so read b1 from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D15-52F8-4082-BE53-B82562560A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tocol Imple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52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F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FS Clien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PC (Remote Procedure Call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-Server communicates in a very simple manner: function calls!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he compiler creates client-server stubs that implement the low-level detail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simply call nfsd_read() but nfsd_read() is implemented at the serv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se XDR for formatting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DP (User Datagram Protocol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unterpart of TCP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tateless protocol (message can lost and not retransmitted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10160" y="1523880"/>
            <a:ext cx="415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DP receives the mess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XDR and RPC sets up the function arguments, and call the actual implementation (e.g. nfsd_read()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FS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d_read() calls VFS to reroute the actual read() to the local file system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8A7-91B6-4249-B1F7-E11EDD34CA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a distributed file system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905120"/>
            <a:ext cx="914400" cy="1066680"/>
            <a:chOff x="990720" y="1905120"/>
            <a:chExt cx="914400" cy="1066680"/>
          </a:xfrm>
        </p:grpSpPr>
        <p:sp>
          <p:nvSpPr>
            <p:cNvPr id="48" name=""/>
            <p:cNvSpPr/>
            <p:nvPr/>
          </p:nvSpPr>
          <p:spPr>
            <a:xfrm>
              <a:off x="990720" y="1905120"/>
              <a:ext cx="762120" cy="1066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3360" y="236196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0720" y="1981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33720" y="2590920"/>
            <a:ext cx="914400" cy="1066680"/>
            <a:chOff x="2133720" y="2590920"/>
            <a:chExt cx="914400" cy="1066680"/>
          </a:xfrm>
        </p:grpSpPr>
        <p:sp>
          <p:nvSpPr>
            <p:cNvPr id="52" name=""/>
            <p:cNvSpPr/>
            <p:nvPr/>
          </p:nvSpPr>
          <p:spPr>
            <a:xfrm>
              <a:off x="2133720" y="2590920"/>
              <a:ext cx="762120" cy="1066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360" y="304776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2666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828800" y="4038480"/>
            <a:ext cx="914400" cy="1067040"/>
            <a:chOff x="1828800" y="4038480"/>
            <a:chExt cx="914400" cy="1067040"/>
          </a:xfrm>
        </p:grpSpPr>
        <p:sp>
          <p:nvSpPr>
            <p:cNvPr id="56" name=""/>
            <p:cNvSpPr/>
            <p:nvPr/>
          </p:nvSpPr>
          <p:spPr>
            <a:xfrm>
              <a:off x="1828800" y="4038480"/>
              <a:ext cx="762120" cy="1067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440" y="44956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1148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066680" y="5410080"/>
            <a:ext cx="762120" cy="106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486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971800"/>
            <a:ext cx="312408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1400" y="312408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809880"/>
            <a:ext cx="38124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0200" y="2620800"/>
            <a:ext cx="2303280" cy="3019680"/>
          </a:xfrm>
          <a:custGeom>
            <a:avLst/>
            <a:gdLst/>
            <a:ahLst/>
            <a:rect l="l" t="t" r="r" b="b"/>
            <a:pathLst>
              <a:path w="1451" h="1902">
                <a:moveTo>
                  <a:pt x="239" y="236"/>
                </a:moveTo>
                <a:cubicBezTo>
                  <a:pt x="227" y="73"/>
                  <a:pt x="190" y="45"/>
                  <a:pt x="331" y="0"/>
                </a:cubicBezTo>
                <a:cubicBezTo>
                  <a:pt x="435" y="12"/>
                  <a:pt x="386" y="1"/>
                  <a:pt x="475" y="31"/>
                </a:cubicBezTo>
                <a:cubicBezTo>
                  <a:pt x="484" y="34"/>
                  <a:pt x="505" y="41"/>
                  <a:pt x="505" y="41"/>
                </a:cubicBezTo>
                <a:cubicBezTo>
                  <a:pt x="540" y="67"/>
                  <a:pt x="570" y="98"/>
                  <a:pt x="608" y="123"/>
                </a:cubicBezTo>
                <a:cubicBezTo>
                  <a:pt x="753" y="116"/>
                  <a:pt x="821" y="118"/>
                  <a:pt x="946" y="82"/>
                </a:cubicBezTo>
                <a:cubicBezTo>
                  <a:pt x="1060" y="92"/>
                  <a:pt x="1111" y="91"/>
                  <a:pt x="1152" y="205"/>
                </a:cubicBezTo>
                <a:cubicBezTo>
                  <a:pt x="1161" y="314"/>
                  <a:pt x="1175" y="457"/>
                  <a:pt x="1193" y="564"/>
                </a:cubicBezTo>
                <a:cubicBezTo>
                  <a:pt x="1203" y="627"/>
                  <a:pt x="1245" y="702"/>
                  <a:pt x="1275" y="759"/>
                </a:cubicBezTo>
                <a:cubicBezTo>
                  <a:pt x="1297" y="851"/>
                  <a:pt x="1287" y="938"/>
                  <a:pt x="1326" y="1026"/>
                </a:cubicBezTo>
                <a:cubicBezTo>
                  <a:pt x="1330" y="1035"/>
                  <a:pt x="1328" y="1048"/>
                  <a:pt x="1336" y="1056"/>
                </a:cubicBezTo>
                <a:cubicBezTo>
                  <a:pt x="1343" y="1063"/>
                  <a:pt x="1356" y="1063"/>
                  <a:pt x="1367" y="1067"/>
                </a:cubicBezTo>
                <a:cubicBezTo>
                  <a:pt x="1403" y="1121"/>
                  <a:pt x="1407" y="1189"/>
                  <a:pt x="1428" y="1251"/>
                </a:cubicBezTo>
                <a:cubicBezTo>
                  <a:pt x="1434" y="1354"/>
                  <a:pt x="1451" y="1528"/>
                  <a:pt x="1428" y="1631"/>
                </a:cubicBezTo>
                <a:cubicBezTo>
                  <a:pt x="1419" y="1665"/>
                  <a:pt x="1323" y="1686"/>
                  <a:pt x="1295" y="1692"/>
                </a:cubicBezTo>
                <a:cubicBezTo>
                  <a:pt x="1164" y="1717"/>
                  <a:pt x="1038" y="1734"/>
                  <a:pt x="905" y="1743"/>
                </a:cubicBezTo>
                <a:cubicBezTo>
                  <a:pt x="767" y="1767"/>
                  <a:pt x="624" y="1763"/>
                  <a:pt x="485" y="1774"/>
                </a:cubicBezTo>
                <a:cubicBezTo>
                  <a:pt x="399" y="1809"/>
                  <a:pt x="330" y="1864"/>
                  <a:pt x="239" y="1887"/>
                </a:cubicBezTo>
                <a:cubicBezTo>
                  <a:pt x="70" y="1865"/>
                  <a:pt x="89" y="1902"/>
                  <a:pt x="64" y="1784"/>
                </a:cubicBezTo>
                <a:cubicBezTo>
                  <a:pt x="67" y="1729"/>
                  <a:pt x="70" y="1674"/>
                  <a:pt x="75" y="1620"/>
                </a:cubicBezTo>
                <a:cubicBezTo>
                  <a:pt x="90" y="1436"/>
                  <a:pt x="134" y="1444"/>
                  <a:pt x="44" y="1354"/>
                </a:cubicBezTo>
                <a:cubicBezTo>
                  <a:pt x="31" y="1322"/>
                  <a:pt x="4" y="1294"/>
                  <a:pt x="3" y="1261"/>
                </a:cubicBezTo>
                <a:cubicBezTo>
                  <a:pt x="0" y="1189"/>
                  <a:pt x="0" y="1116"/>
                  <a:pt x="13" y="1046"/>
                </a:cubicBezTo>
                <a:cubicBezTo>
                  <a:pt x="21" y="1000"/>
                  <a:pt x="113" y="875"/>
                  <a:pt x="146" y="831"/>
                </a:cubicBezTo>
                <a:cubicBezTo>
                  <a:pt x="159" y="745"/>
                  <a:pt x="187" y="671"/>
                  <a:pt x="198" y="585"/>
                </a:cubicBezTo>
                <a:cubicBezTo>
                  <a:pt x="201" y="513"/>
                  <a:pt x="200" y="440"/>
                  <a:pt x="208" y="369"/>
                </a:cubicBezTo>
                <a:cubicBezTo>
                  <a:pt x="212" y="323"/>
                  <a:pt x="232" y="280"/>
                  <a:pt x="239" y="2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87600" y="397188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1240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53341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213372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56386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FS: one of the most successful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xamples: NFS, A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279-63AF-43F4-9645-0B1F79EC87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clu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ortant for data sharing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allenges: Fault tolerance, scalable performance, and consistenc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FS: Popular distributed file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y features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ateless server, idempotent operations: Simplifies fault toler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rashed server appears as slow server to cli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 caches needed for scalable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ules for invalidating cache entries and flushing data to server are not straight-forwar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ata consistency very hard to reason abou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82D-213A-49DC-BE00-47F0180A46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are distributed file systems useful? (i.e. why not just use bunches of local disks?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cess from multiple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ame user on different machines can access same fil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ifies shar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fferent users on different machines can read/write to same files (“check out my files in my public directories”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ifies administr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e shared server to maintain (and backup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: A company with thousands of employe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rove reliabil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ltiple copies in your laptop are not much protect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use lots of large disks (cheaper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dd RAID storage to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y carry all your files with you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F68-AE41-4EF7-9A4B-095B09AB6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halleng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verything used to be local (read from disk to memory, write to memory then to local disk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n DFS, when read from the server? When write to server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erformance scalability: Performance does not degrade as more clients are added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e same directory and file contents on different clients at same time (reflect the latest modification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One or more servers/disks/network can down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Whenever possible, should keep the system alive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and server identify and respond appropriately when other crashe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x: server crashes, your updated file is still in your laptop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nsparent ac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ser sees single, global file system regardless of location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cure communication and user authentication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halkboard"/>
              </a:rPr>
              <a:t>Tension across these goals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Chalkboard"/>
              </a:rPr>
              <a:t>Example: Caching helps performance, but hurts consistency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A30-31CC-47C9-9F29-5173684D2C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se Study: NF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un’s Network File System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roduced in 1980s, multiple versions (v2, v3, </a:t>
            </a:r>
            <a:r>
              <a:rPr b="0" i="1" lang="en-US" sz="2400" spc="-1" strike="noStrike">
                <a:solidFill>
                  <a:srgbClr val="ccccff"/>
                </a:solidFill>
                <a:latin typeface="Chalkboard"/>
              </a:rPr>
              <a:t>v4</a:t>
            </a:r>
            <a:r>
              <a:rPr b="0" lang="en-US" sz="2400" spc="-1" strike="noStrike">
                <a:solidFill>
                  <a:srgbClr val="ccccff"/>
                </a:solidFill>
                <a:latin typeface="Chalkboar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FS Goal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chine/OS independe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ash recove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 crashes should be simple to deal wit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nsparent ac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mote should look like local (no special libraries, no recompi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sonable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d to defi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80% of local disk performanc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B65-3F56-4005-B11A-616848017E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Key Idea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halkboard"/>
              </a:rPr>
              <a:t>Key idea #1: </a:t>
            </a:r>
            <a:r>
              <a:rPr b="1" lang="en-US" sz="2400" spc="-1" strike="noStrike">
                <a:solidFill>
                  <a:srgbClr val="cc3300"/>
                </a:solidFill>
                <a:latin typeface="Chalkboard"/>
              </a:rPr>
              <a:t>Stateless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 not required to remember anything (in memor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clients are connected, which files are open, ..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: All client requests have enough info to complete o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Client specifies offset in file to write to, a file handle carries an inode number of the file at the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Advantage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Scalability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: server state does not grow with more cli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ad Advantages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No locking (2 writers are allowed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s cannot tell between slow-server or unavailable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halkboard"/>
              </a:rPr>
              <a:t>Key idea #2: </a:t>
            </a:r>
            <a:r>
              <a:rPr b="1" lang="en-US" sz="2400" spc="-1" strike="noStrike">
                <a:solidFill>
                  <a:srgbClr val="cc3300"/>
                </a:solidFill>
                <a:latin typeface="Chalkboard"/>
              </a:rPr>
              <a:t>Idempotent server 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eration can be repeated with same result (no side effect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read/write specifies the offset of the bytes to read (Hence, repeating the same read/write will give an idempotent operation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Advantage: makes recovery from server crash really eas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rver: start, and do nothing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: just </a:t>
            </a:r>
            <a:r>
              <a:rPr b="1" lang="en-US" sz="1800" spc="-1" strike="noStrike">
                <a:solidFill>
                  <a:srgbClr val="cc3300"/>
                </a:solidFill>
                <a:latin typeface="Chalkboard"/>
              </a:rPr>
              <a:t>retry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(same as network failure, no special code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A70-AD2E-4B13-A386-11FB33ECAE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Overview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mote Procedure Calls (RPC) for communication between client and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ient Implemen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s transparent access to NFS file syste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NIX contains Virtual File system layer (VF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 major contribution to provide a generic layer for plugging in new file system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FS maintains a generic inode structure (e.g. called vnode in literature), and directory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nslates vnode operations to NFS RPC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rver Implemen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teless: Must not have anything only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: All modified data written to stable storage before return control to cli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rvers often add NVRAM to improve perform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C7E-9931-4FA0-91C5-34F4AA4EF8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sic NFS Protoco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fferentiate NFS protocol vs. System Call API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System call API: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How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applications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talk to the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NFS protocol: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How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NFS clien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can talk to the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NFS serv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mplementation of NFS client and server commonly resides in the kerne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FS client simply makes the “function call” over RPC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FS server must implement all the operations below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kup(dirfh, name) returns (fh, attribut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 mount protocol for root director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(dirfh, name, attr) returns (newfs, att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dirfs, name) returns (statu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(fh, offset, count) returns (attr, data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(fh, offset, count, data) returns att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tattr(fh) returns att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823-2ECC-4C91-A8A6-E3AAE1047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Protoco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ortant note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s missing? Open(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dempotency: reads and write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.g. reads must specify the 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of the next byte to read (the server does not keep track that information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parameter is very important for idempotenc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telessness: reads and write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.g. server does not keep track the latest byte offset rea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’s inside a file handl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s-id: a server can serves multiple file system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ode number: (just like in local file system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ode generation number: (to track freed inode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1: open a file (inode #7), and read/write to that file (but hasn’t closed the file, i.e., still keeps the handle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2: delete the file (inode #7 is freed on the server), and create a new file (and suppose inode #7 is reused by the server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1: write to the file handle (inode #7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366-6469-4F77-A1A6-69B53BA1C4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UW Madison Computer Sciences</cp:lastModifiedBy>
  <cp:lastPrinted>2005-12-02T17:31:03Z</cp:lastPrinted>
  <dcterms:modified xsi:type="dcterms:W3CDTF">2008-11-11T21:19:43Z</dcterms:modified>
  <cp:revision>321</cp:revision>
  <dc:subject/>
  <dc:title>Synchronization</dc:title>
</cp:coreProperties>
</file>